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2A3-9817-4177-B7ED-D5AA4AA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506-2625-4611-80C0-262970B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794-0CCD-4EA9-84FF-EFC4A06E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A58-C95A-4059-9C57-359340C4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142-369C-4754-93B8-A4AAD9B1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7DD-B280-479D-8E22-6479346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44B-26E3-4070-B2B6-1B13B095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A4D-9E35-4C84-922F-DB66B9E3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155-1E6C-4D6D-80F9-87DE2478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124-2DA2-42EA-98A8-5D47A2E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F48-47D1-4A92-A8F7-14D1487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80C-597D-4E63-A2BC-868B578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035D-AACA-4D37-91F9-3ED654AFC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44280"/>
            <a:ext cx="860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Онез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коит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изкупил е 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те пак ще дойда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   </a:t>
            </a: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с песен във Си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6560" y="-100080"/>
            <a:ext cx="8569440" cy="63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и върху тях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ще пребъд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радос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_Albionic"/>
              </a:rPr>
              <a:t>  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вечна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та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360" y="423720"/>
            <a:ext cx="8964720" cy="588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Весел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ще имат те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а скръб 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  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въздиш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     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ще отлетя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4280"/>
            <a:ext cx="860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Онез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коит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изкупил е 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те пак ще дойда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   </a:t>
            </a: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с песен във Си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77080" y="404640"/>
            <a:ext cx="2555640" cy="191628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91658" dir="19582341" blurRad="0" rotWithShape="0">
              <a:srgbClr val="ccff66"/>
            </a:outerShdw>
          </a:effectLst>
        </p:spPr>
      </p:pic>
    </p:spTree>
  </p:cSld>
  <p:transition advTm="8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6560" y="-100080"/>
            <a:ext cx="8569440" cy="63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и върху тях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ще пребъд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радос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_Albionic"/>
              </a:rPr>
              <a:t>  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вечна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та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48000" y="4724280"/>
            <a:ext cx="2577960" cy="1878120"/>
          </a:xfrm>
          <a:prstGeom prst="rect">
            <a:avLst/>
          </a:prstGeom>
          <a:ln w="57240">
            <a:solidFill>
              <a:srgbClr val="ffff00"/>
            </a:solidFill>
            <a:miter/>
          </a:ln>
          <a:effectLst>
            <a:outerShdw dist="89604" dir="8100000" blurRad="0" rotWithShape="0">
              <a:srgbClr val="ccff66"/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193860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81185" dir="7721969" blurRad="0" rotWithShape="0">
              <a:srgbClr val="ccff66"/>
            </a:outerShdw>
          </a:effectLst>
        </p:spPr>
      </p:pic>
    </p:spTree>
  </p:cSld>
  <p:transition advTm="4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6000" y="-44280"/>
            <a:ext cx="8964360" cy="60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Весел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ще имат те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а скръб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въздишк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ще отлет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75560" y="692280"/>
            <a:ext cx="186192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63504" dir="19383909" blurRad="0" rotWithShape="0">
              <a:srgbClr val="ccff66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506600" cy="244800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68321" dir="6718175" blurRad="0" rotWithShape="0">
              <a:srgbClr val="ccff66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050920" y="4941720"/>
            <a:ext cx="1273320" cy="1700280"/>
          </a:xfrm>
          <a:prstGeom prst="rect">
            <a:avLst/>
          </a:prstGeom>
          <a:ln w="76320">
            <a:solidFill>
              <a:srgbClr val="ffff00"/>
            </a:solidFill>
            <a:miter/>
          </a:ln>
          <a:effectLst>
            <a:outerShdw dist="63504" dir="2216091" blurRad="0" rotWithShape="0">
              <a:srgbClr val="ccff66"/>
            </a:outerShdw>
          </a:effectLst>
        </p:spPr>
      </p:pic>
    </p:spTree>
  </p:cSld>
  <p:transition advTm="13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44280"/>
            <a:ext cx="860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Онез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коит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  </a:t>
            </a: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изкупил е 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те пак ще дойда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   </a:t>
            </a:r>
            <a:r>
              <a:rPr b="0" lang="bg-BG" sz="7200" spc="-1" strike="noStrike">
                <a:solidFill>
                  <a:srgbClr val="ccff66"/>
                </a:solidFill>
                <a:latin typeface="a_Albionic"/>
              </a:rPr>
              <a:t>с песен във Си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6560" y="-100080"/>
            <a:ext cx="8569440" cy="63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и върху тях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ще пребъд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радос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800" spc="-1" strike="noStrike">
                <a:solidFill>
                  <a:srgbClr val="ffff00"/>
                </a:solidFill>
                <a:latin typeface="a_Albionic"/>
              </a:rPr>
              <a:t>      </a:t>
            </a:r>
            <a:r>
              <a:rPr b="0" lang="bg-BG" sz="8800" spc="-1" strike="noStrike">
                <a:solidFill>
                  <a:srgbClr val="ccff66"/>
                </a:solidFill>
                <a:latin typeface="a_Albionic"/>
              </a:rPr>
              <a:t>вечна</a:t>
            </a:r>
            <a:r>
              <a:rPr b="0" lang="bg-BG" sz="6600" spc="-1" strike="noStrike">
                <a:solidFill>
                  <a:srgbClr val="ffff00"/>
                </a:solidFill>
                <a:latin typeface="a_Albionic"/>
              </a:rPr>
              <a:t> та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33:12Z</dcterms:created>
  <dc:creator>TrifonTrifonow</dc:creator>
  <dc:description/>
  <dc:language>en-US</dc:language>
  <cp:lastModifiedBy>TrifonTrifonow</cp:lastModifiedBy>
  <dcterms:modified xsi:type="dcterms:W3CDTF">2005-12-15T06:33:37Z</dcterms:modified>
  <cp:revision>1</cp:revision>
  <dc:subject/>
  <dc:title>Slide 1</dc:title>
</cp:coreProperties>
</file>